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D638-4384-4909-8375-B8FEF606E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E216-C6AA-44DA-96B3-FD9740777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FFE5-96ED-41EC-ADDE-0599298F7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4C42-1798-404B-8DE7-13B6FA1F9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C9BC-DFE8-426E-933F-D4B5DD135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DD41-AA83-4465-9624-B3E51514F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D5AA-5BC4-487C-8042-DCA00BC2E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46A9-7F0D-46AB-9535-3A748410F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DBF9-97EA-46B3-8B96-8A9F76DDD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9924-DAE7-478B-8A78-5AB8A1B2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A446-0D13-465F-96A8-7A9976FA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76C1-37F3-4537-839C-2EA066CE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13C8E-3B9C-42B3-9E14-787751D6FA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0.xml"/><Relationship Id="rId9" Type="http://schemas.openxmlformats.org/officeDocument/2006/relationships/slide" Target="slide15.xml"/><Relationship Id="rId10" Type="http://schemas.openxmlformats.org/officeDocument/2006/relationships/slide" Target="slide15.xml"/><Relationship Id="rId11" Type="http://schemas.openxmlformats.org/officeDocument/2006/relationships/slide" Target="slide16.xml"/><Relationship Id="rId12" Type="http://schemas.openxmlformats.org/officeDocument/2006/relationships/slide" Target="slide16.xml"/><Relationship Id="rId13" Type="http://schemas.openxmlformats.org/officeDocument/2006/relationships/slide" Target="slide14.xml"/><Relationship Id="rId14" Type="http://schemas.openxmlformats.org/officeDocument/2006/relationships/slide" Target="slide14.xml"/><Relationship Id="rId15" Type="http://schemas.openxmlformats.org/officeDocument/2006/relationships/slide" Target="slide18.xml"/><Relationship Id="rId16" Type="http://schemas.openxmlformats.org/officeDocument/2006/relationships/slide" Target="slide18.xml"/><Relationship Id="rId17" Type="http://schemas.openxmlformats.org/officeDocument/2006/relationships/slide" Target="slide3.xml"/><Relationship Id="rId18" Type="http://schemas.openxmlformats.org/officeDocument/2006/relationships/slide" Target="slide11.xml"/><Relationship Id="rId19" Type="http://schemas.openxmlformats.org/officeDocument/2006/relationships/slide" Target="slide11.xml"/><Relationship Id="rId20" Type="http://schemas.openxmlformats.org/officeDocument/2006/relationships/slide" Target="slide12.xml"/><Relationship Id="rId21" Type="http://schemas.openxmlformats.org/officeDocument/2006/relationships/slide" Target="slide12.xml"/><Relationship Id="rId22" Type="http://schemas.openxmlformats.org/officeDocument/2006/relationships/slide" Target="slide13.xml"/><Relationship Id="rId23" Type="http://schemas.openxmlformats.org/officeDocument/2006/relationships/slide" Target="slide13.xml"/><Relationship Id="rId24" Type="http://schemas.openxmlformats.org/officeDocument/2006/relationships/slide" Target="slide9.xml"/><Relationship Id="rId25" Type="http://schemas.openxmlformats.org/officeDocument/2006/relationships/slide" Target="slide9.xml"/><Relationship Id="rId26" Type="http://schemas.openxmlformats.org/officeDocument/2006/relationships/slide" Target="slide17.xml"/><Relationship Id="rId27" Type="http://schemas.openxmlformats.org/officeDocument/2006/relationships/slide" Target="slide17.xml"/><Relationship Id="rId28" Type="http://schemas.openxmlformats.org/officeDocument/2006/relationships/slide" Target="slide8.xml"/><Relationship Id="rId29" Type="http://schemas.openxmlformats.org/officeDocument/2006/relationships/slide" Target="slide7.xml"/><Relationship Id="rId30" Type="http://schemas.openxmlformats.org/officeDocument/2006/relationships/slide" Target="slide6.xml"/><Relationship Id="rId31" Type="http://schemas.openxmlformats.org/officeDocument/2006/relationships/slide" Target="slide6.xml"/><Relationship Id="rId32" Type="http://schemas.openxmlformats.org/officeDocument/2006/relationships/slide" Target="slide19.xml"/><Relationship Id="rId33" Type="http://schemas.openxmlformats.org/officeDocument/2006/relationships/slide" Target="slide19.xml"/><Relationship Id="rId34" Type="http://schemas.openxmlformats.org/officeDocument/2006/relationships/slide" Target="slide20.xml"/><Relationship Id="rId35" Type="http://schemas.openxmlformats.org/officeDocument/2006/relationships/slide" Target="slide20.xml"/><Relationship Id="rId36" Type="http://schemas.openxmlformats.org/officeDocument/2006/relationships/slide" Target="slide21.xml"/><Relationship Id="rId37" Type="http://schemas.openxmlformats.org/officeDocument/2006/relationships/slide" Target="slide21.xml"/><Relationship Id="rId38" Type="http://schemas.openxmlformats.org/officeDocument/2006/relationships/slide" Target="slide22.xml"/><Relationship Id="rId39" Type="http://schemas.openxmlformats.org/officeDocument/2006/relationships/slide" Target="slide22.xml"/><Relationship Id="rId40" Type="http://schemas.openxmlformats.org/officeDocument/2006/relationships/slide" Target="slide3.xml"/><Relationship Id="rId4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 your name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6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2,4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2,4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3,1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3,1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6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3,2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3,2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3,3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3,3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4"/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3,4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3,4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4,1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4,1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4,2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4,2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6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4,3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4,3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4,4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4,4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5,1 here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5,1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175e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4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AutoShape 5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8">
            <a:hlinkClick r:id="rId5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10">
            <a:hlinkClick r:id="rId7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8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12">
            <a:hlinkClick r:id="rId9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0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14">
            <a:hlinkClick r:id="rId11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2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6">
            <a:hlinkClick r:id="rId13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8">
            <a:hlinkClick r:id="rId15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6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3"/>
          <p:cNvSpPr/>
          <p:nvPr/>
        </p:nvSpPr>
        <p:spPr>
          <a:xfrm>
            <a:off x="228600" y="380880"/>
            <a:ext cx="160020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ice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24"/>
          <p:cNvSpPr/>
          <p:nvPr/>
        </p:nvSpPr>
        <p:spPr>
          <a:xfrm>
            <a:off x="2362320" y="380880"/>
            <a:ext cx="175248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ice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25"/>
          <p:cNvSpPr/>
          <p:nvPr/>
        </p:nvSpPr>
        <p:spPr>
          <a:xfrm>
            <a:off x="4876920" y="380880"/>
            <a:ext cx="160020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ice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6"/>
          <p:cNvSpPr/>
          <p:nvPr/>
        </p:nvSpPr>
        <p:spPr>
          <a:xfrm>
            <a:off x="7010280" y="380880"/>
            <a:ext cx="175284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ice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27">
            <a:hlinkClick r:id="rId17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28">
            <a:hlinkClick r:id="rId18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9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30">
            <a:hlinkClick r:id="rId20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1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31">
            <a:hlinkClick r:id="rId22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3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32">
            <a:hlinkClick r:id="rId24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5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33">
            <a:hlinkClick r:id="rId26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7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35">
            <a:hlinkClick r:id="rId28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9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36">
            <a:hlinkClick r:id="rId30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1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37">
            <a:hlinkClick r:id="rId32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3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38">
            <a:hlinkClick r:id="rId34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5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39">
            <a:hlinkClick r:id="rId36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7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40">
            <a:hlinkClick r:id="rId38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9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0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5,2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5,2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5,3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5,3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5,4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5,4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4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1,1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1,1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5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1,2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1,2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6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1,3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1,3 here.)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1,4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990720" y="22860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1,4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4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2,1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2,1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4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2,2 here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2,2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2,3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2,3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Stephanie Hein Phillips</cp:lastModifiedBy>
  <cp:lastPrinted>2001-01-31T16:21:13Z</cp:lastPrinted>
  <dcterms:modified xsi:type="dcterms:W3CDTF">2017-05-11T12:20:28Z</dcterms:modified>
  <cp:revision>58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